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B48-606F-420F-9114-88D6E819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83F-D6F7-4E46-823B-835A413C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2FC0D-AC08-45A9-9F38-02D36B86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A454B-7536-42BB-86F4-B0165946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EAA27-672B-4AB2-9118-72A554A3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53064-1B5D-4F82-88FF-DF1A3C3E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01B42-D1EA-47B6-A7FF-651C4299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76852-D743-4C49-8FFE-9CAABAC1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7A59E-6317-46FC-A6AB-CCF887A0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B789B-EE35-451E-A16E-CB512386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CB812-06B5-4399-9E17-60649054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6C19D-FAF5-48E5-B39B-BAD61B2E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520-E0D4-4EB0-B780-1117AAA8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A5E4D-EDDD-47B8-B393-9BC92A62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7A74C-C539-446E-8439-F3E43526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A7392-1668-4BDF-A8F0-C5D2968C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F9487-5437-47B2-8601-1AF3AADE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93A9B-013C-4727-8DED-1249CE2A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33C35-47EE-490D-9BAF-4A048BC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D9DDA-1D60-407D-9704-11066C17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1AE8F-D6F8-4356-800B-531A9349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4644C-CA9B-492F-B27B-9ED8E427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8411C-77AF-4EC1-9AAD-B3F57E0C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0ED-3EC8-43E5-B9E6-B77DFF13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56504-78D0-45FA-A3E1-F375D30E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46821-2477-4602-B930-995AA48D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974C9-7A08-4AB9-878E-2D361876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F082B-AE77-4647-9FFE-94559169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B69B8-CD42-483C-944A-1E079BB3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99DEF-D56D-477D-815F-9A3FBCE9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2C2E4-034B-47C9-BEE1-F26D59F3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00544-09D1-4A72-BE9B-45914CB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96EB6-92EE-41CE-9DCE-46E10157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9DD33-529B-41C4-94CA-EB57F887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AD59-9187-4F4B-8E1A-1D8535EA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5581D-BA74-4A9F-857E-AD125FB0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41DC7-D3DB-4938-AD87-70EEE09C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EFC4B-5F23-40C0-832A-A459872B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34A74-3366-4326-8E9A-71F917DE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96E02-37D7-4A4B-A8BA-C8A3711C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5C0F4-7FAE-4819-8630-A11BD02E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8E56C-765B-4161-A430-F3E69490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0B4E1-6C35-40B0-A460-891C1890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FA375-0698-41E7-A121-6007EA6B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305BA-0237-4BC3-877C-4A9473C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FCF7-2E0C-4C32-9CB9-DAA9E42B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B1AA5-DBF6-4E31-BE4F-8B51D9D9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5C73F-5FCC-470A-A3C7-BEF01025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D10E5-55C3-4036-B97B-0E52909B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6D77F-98F1-48B3-B702-766DEF95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97340-5B68-4269-A810-E0532B27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2634-6713-4953-A939-515F96D0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39F4-253C-4AEC-91BB-F52406B1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6519-0959-49E5-8A8C-281E2907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FAC2-69C2-4995-B5CC-CC771441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C33A-DD9E-47FE-A6A2-82032D0A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E82-0776-446A-BCA1-FBD7BF91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3EFE-9FCF-4AFE-81C6-F4545399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3028-3EE6-4FCC-84A7-CF3B792A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D7AE-F3F5-4421-9DC9-7AC01986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C2BB-BB94-4AC7-B581-F533F538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A211-C114-4529-A928-DF3E1D93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482DF-7E00-4739-B45D-EB65C449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9A9F-E2E2-47E0-B2CD-E8F56206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0A65-9F2E-43BD-8369-0E736514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72F07-E532-492B-A784-59AF6B21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E23A-60B2-4CBD-A9A5-F75B12D6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922-5209-4FAB-BBAE-5DD57E1D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5C02-6F00-435B-9CC5-A79C033F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080B-7555-4077-A8BA-48D13BA8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119D3-0EF7-4077-8F96-A67F4427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60B8-5A9B-467F-85CB-E8F6AEED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60A2-EDC9-4F2C-95B7-C5997EF5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9F94-5593-4B3B-8624-6C90F166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146F-7E96-41AE-8683-09C2090D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5C7D8-A992-4E91-BA2E-1F34E56A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B5912-9B42-44FB-BCA1-E67B3500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211E-F9FD-4E40-90F7-7D018107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E19-8F3B-4407-A029-B936D7AE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BF06F-F7DC-4375-B5B3-C691D298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BA4BD-C004-460A-8467-4AC5877C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83931-C8E2-425E-BCC9-ED317452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827B-D0FF-40DE-99C0-946BDFF4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CE90B-B41C-4C5F-881F-CB44ECC8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75724-B708-4693-8EE1-A2650D15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A089-DB4C-48E0-8F2D-BB1C4596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E6766-B58E-4B7E-B615-2784E3F6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3281-9A07-4F00-BEB4-9AEDDFAF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06C1-4837-4F76-ADE1-FB91FC69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9AF-EA03-4C77-BE77-49AC3276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D92A5-F429-4699-B110-7801A5E4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69A1D-A7A5-4709-A4A2-240C8455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02735-BC66-4C12-B734-6C59EDB3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8F17E-3CFF-48D5-89B3-D47C2618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73200-A9F1-471B-BC25-6B276C9E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09F85-BA0C-470B-8B31-F24579DE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9B0E9-FEF3-4F1E-A8B1-AFF2516B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6BD2A-244B-4450-9C59-83BE302F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76A3C-5494-4629-B30F-4D85A286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C305F-F467-4954-9D5C-B55E2387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8F5-1C67-40DA-8309-870F7EC8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877A4-CA3A-4A2A-A42D-E0ECEFF2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5BC96-AD83-47F1-A6BA-24394FD7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5C517-C643-4D31-835D-C6B45F97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2C00D-434C-4EB1-AC80-23145CBF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AF119-A7CA-4A1A-B76A-B70BDB33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06C83-8591-4B86-BB4A-6F4E35BE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9A127-9A7C-4B81-8176-AE4CA1B0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8B408-7B8D-404B-8E2B-A58D839D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027D2-D508-4ACD-91C7-816E3644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7544-DBE2-4037-BA1D-67590537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F6F-32D8-4301-B9B3-1321ED0C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17E02-61B1-46C7-AA63-1A8930BF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D050C-E983-4834-98FF-3AA3A686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5FF14-FB19-49E1-A9F2-F734861D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C52D9-F0C2-4DAA-8035-388A5430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4C033-4BFB-47A5-96A4-4CD73CD1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D1496-16D5-4387-ABFC-106E1E1A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3B475-1CDF-4646-A180-A87B8524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2F8FF-8DFC-44D9-A386-937B05ED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5AE63-B437-4F08-9D4C-1B54FD7D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35BE7-74EF-4084-A68B-77D9A86E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5DA-4872-4C1D-9BEF-7C64E24F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35353-10C3-4963-8B75-2002FD7E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C3739-B0CE-4DBC-9BE0-548FBA22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26E86-848A-4286-A6F7-C0FB3FA2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EC4BF-F095-45F9-89CB-81024D5B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DF2F5-69DE-486D-83F8-6EAF138E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3104B-12F6-42FB-A5DA-3FD51501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9B226-95A7-47A1-A913-C34C6BBC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8E52E-E1FA-4222-B6BD-157227C5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1B963-FE4D-4A1B-9921-B3D85E1B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938E4-E065-49CF-B269-511BAD62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317-C95B-47C9-9D21-0C41A41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222E6-F263-4F60-9A3F-4A2EA757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9BD26-2879-4A86-95CA-AD9A00B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B8C53-582A-4D86-8AC7-3B5B803E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1C94D-2EA5-4AB5-B164-5A145C54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5A3EB-6183-42D4-803B-3ABD818C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88AA5-B054-48F4-80E3-F8ABBDE2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9408F-0CCA-4F56-8658-9DC835EF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338AB-B863-4867-ACE6-05089A29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65669-047C-4E03-AFEA-49D8CF20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0B02B-0657-4676-8AFF-A77E82E5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7281-C15F-49A1-90D3-20F143BB6F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BD84-3BA9-4044-8AF7-49E9FA65A8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7E7B-9170-4AA0-9400-939A33F085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AE80-0DE6-4821-884F-9FA0BFDF32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7894-BD5B-40A5-81AE-B8857FC58E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FB93-546F-4758-BE1E-CD65CBA5D0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9DCD-3E86-40EB-9737-E9CD07BCD0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7746-DFFE-41E2-8AE8-F380C55D2A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ABFE-627B-4D54-8D5B-92ABEAB8AA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D2F1-693D-4CDB-9507-9D5872631D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11FC-C450-4B7D-8557-F8DD6E48AB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2CC8-8E5B-490F-9FD8-D16264A178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52 Keď sa blížia tmavej noci tie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blížia tmavej noci tie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chraňuj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ernú postav stráž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opraj, nový deň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ri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staň s nami, Pane náš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nás láska tvoja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chrá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rných čuj našich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osieb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tcovským vždy požehnan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sprevádzať všetkých ná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7:21:45Z</dcterms:modified>
  <cp:revision>57</cp:revision>
  <dc:subject/>
  <dc:title>Je veľký náš Pán, on slávy je Kráľ Nech do všetkých strán  spev vrúcnych znie chvál.</dc:title>
</cp:coreProperties>
</file>